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9041-DED9-4F5F-AC59-87BEDF19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306D-B8C6-42BB-B0A8-66F60F87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B1E-2932-4610-889A-583393A8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4D5-C42E-4384-97A2-8BA3D218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174-A25D-4399-88FA-10B95095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F3C-0A15-4030-B558-36F70056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947-DFCB-412E-9E84-F7223EA4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147A-1070-4897-89A2-DBC993D4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C527-8B5B-42A6-BBA7-639D20E1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6637-49E5-40C4-9FCE-F4854F93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0E7-E4FA-40FA-B6D2-6994A01D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85A-94EA-465A-B4EC-A6B877AC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730F-AF8B-4641-B324-0B030B59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C95-51C2-400A-A903-D8F414AF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E81B-5953-4C59-BF11-2DCF6115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E8B-9EF4-471E-AF62-D3B06B3C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E92-FC6E-4FC5-8D29-466F4025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28A-FCA7-4548-857F-1C24D58D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5C-5681-4134-88A0-65EB1C7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B36-1850-4ACC-95C9-92031A7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7BD-504C-4DA8-AC3E-AE94B809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585-8790-4F63-AA7E-602CC21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DE6-9EF0-4D6D-AFD3-E6560E68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D1A-1DCE-4EC2-B0BC-C09C551E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69E-266A-4CB0-BAE0-E2EBBB2B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7B7-5402-4107-BBA4-363382EA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99F-2DCB-490D-AB73-A45AA0D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FBF-AEFE-4C7A-8438-FD4CE5A5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91B-CFD9-4529-BB7D-3F56420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0418-6A26-4026-98EC-C8532461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7467480" y="6296040"/>
            <a:ext cx="1285920" cy="4856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 Satellite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ah Li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sing Hsing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elle Yan Le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anie 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elle Ce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047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bate: Increas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226368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 flipV="1">
            <a:off x="20574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895480" y="1981080"/>
            <a:ext cx="3124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suming that rebates are 50% more effective than pric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bate: Incremental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52280" y="2649600"/>
            <a:ext cx="8839440" cy="230328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 flipV="1">
            <a:off x="1981080" y="2438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819520" y="2133720"/>
            <a:ext cx="3124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suming that only 50% of rebates are redeem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533520" y="1600200"/>
          <a:ext cx="807696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prices schedule ($400 hardware + $12 monthly f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annual subscription 53 million in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production cost = $254 M; variable cost = $456/ hard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is assumed with triangular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" y="1600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How many reception hardware boxes should  XM outsource to an OEM manufactur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227160" y="3657600"/>
            <a:ext cx="8689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olve the no. of reception boxes to achieve at least $2M annual profit from the sales of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952880" y="287352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45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% of the time XM makes $2M annual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09480" y="28735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20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% of the time XM makes $2M annual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876920" y="3559320"/>
            <a:ext cx="3657600" cy="207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559320"/>
            <a:ext cx="36576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724280" y="228600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70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% of the time XM can make annual revenue of $2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7200" y="22860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5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2% of the time XM can make annual revenue of $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657600" cy="207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36576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3520" y="1523880"/>
            <a:ext cx="4647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 Satellite Radio has never been profitable since it launched satellite radio broadcasting i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rius XM Radio, Inc. formed in July 2008 (&gt;18.5 million subscribers total) when Sirius acquired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 was controversial because of FCC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ed investors of a possible bankruptcy filing before Liberty Media Corp.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struggling with debt and a significant downturn in sales due to the weakened automobil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486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997: XM a venture started by AMSC and recently partnered with WorldSpace Corporation, planned to deliver 50 or more high-quality, digital radio channels to the car and home via satellite. XM’s biggest threat is SIRIUS, which is the only other company in the United States to have been granted a license for satellite radio from the F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problem for XM is deciding whether to adopt a subscription-only model like SIRIUS, an advertising only model, or a mixture of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48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&amp;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198108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our analysis we fo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Hardware Price = 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Price = $12/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price no rebate should be o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 should contract for the manufacturing of 70 million radio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Variables: What type of pricing structure should XM ado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Maximize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2501" t="17001" r="23752" b="8999"/>
          <a:stretch/>
        </p:blipFill>
        <p:spPr>
          <a:xfrm>
            <a:off x="762120" y="213372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57200" y="2451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hat is the optimal pricing scheme for X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2501" t="17001" r="48127" b="17998"/>
          <a:stretch/>
        </p:blipFill>
        <p:spPr>
          <a:xfrm>
            <a:off x="1219320" y="1676520"/>
            <a:ext cx="6781680" cy="4397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1752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hat is the optimal price for the subscription and hard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&amp; Hardwar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3054240"/>
          </a:xfrm>
          <a:prstGeom prst="rect">
            <a:avLst/>
          </a:prstGeom>
          <a:ln w="0">
            <a:noFill/>
          </a:ln>
        </p:spPr>
      </p:pic>
      <p:sp>
        <p:nvSpPr>
          <p:cNvPr id="70" name="Oval 153"/>
          <p:cNvSpPr/>
          <p:nvPr/>
        </p:nvSpPr>
        <p:spPr>
          <a:xfrm>
            <a:off x="2514600" y="2743200"/>
            <a:ext cx="11430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2501" t="18003" r="33126" b="11999"/>
          <a:stretch/>
        </p:blipFill>
        <p:spPr>
          <a:xfrm>
            <a:off x="914400" y="1600200"/>
            <a:ext cx="7659720" cy="4419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45720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uld XM use an advertising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&amp; Hardware Price with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ssumption - 30% drop in demand with adverti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2457720"/>
          </a:xfrm>
          <a:prstGeom prst="rect">
            <a:avLst/>
          </a:prstGeom>
          <a:ln w="0">
            <a:noFill/>
          </a:ln>
        </p:spPr>
      </p:pic>
      <p:sp>
        <p:nvSpPr>
          <p:cNvPr id="77" name="Oval 7"/>
          <p:cNvSpPr/>
          <p:nvPr/>
        </p:nvSpPr>
        <p:spPr>
          <a:xfrm>
            <a:off x="2666880" y="2743200"/>
            <a:ext cx="11430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2501" t="17001" r="23752" b="8999"/>
          <a:stretch/>
        </p:blipFill>
        <p:spPr>
          <a:xfrm>
            <a:off x="533520" y="1600200"/>
            <a:ext cx="80010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5720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uld XM offer a $100 reb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3:26:11Z</dcterms:created>
  <dc:creator>Michelle</dc:creator>
  <dc:description/>
  <dc:language>en-US</dc:language>
  <cp:lastModifiedBy>Clay</cp:lastModifiedBy>
  <dcterms:modified xsi:type="dcterms:W3CDTF">2009-04-22T11:56:18Z</dcterms:modified>
  <cp:revision>39</cp:revision>
  <dc:subject/>
  <dc:title>Slide 1</dc:title>
</cp:coreProperties>
</file>